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4000" cy="375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FC89-5C97-434B-985E-7AD725C16E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C2BC-89C3-4126-AAB6-D40BDBB458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A8C4-E109-4216-9EAE-B9D160D615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92AD-3341-4E8C-9FA8-BD9CF14B10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8306-F732-45C2-9FBA-FB1363063E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529F-20AA-4DFB-BE5B-4BEC0FFFC3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044E-2EBE-4D01-9081-6267CD4E9A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6159-5DAB-4C8B-8FA8-A598F5A334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261D-C885-42B5-A118-3695981A1E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AFED-AF8F-4A97-A77B-02BE86F793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154C-5CFF-4799-A0D9-FAE4EA19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AC8E-353E-444B-8447-44A4D1B8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F142-0386-48E8-8253-1CE349DD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1D54-4DEF-4C74-B2CC-E207FE2A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152C-DF26-450C-8FE6-3C9E0AFD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F788-05AF-49F7-AD9A-EDBECDB4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FD68-C1E5-4140-8F2F-742C14DB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A810-192D-4248-AF24-C7B83D4A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F3D8-DFDD-4EF1-94AD-79850D20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3C5C-03FD-4A2A-BC02-FF197D14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C424-F28B-41FE-A467-B4F15ECD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F84D-8FB2-45DE-AE00-9FCD09EE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D10D-B3D5-4030-98D4-CA1A55F0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1D77-70A3-48A7-8023-C1BE68F4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2990-08C8-428F-8108-8E866250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6DED-307D-480D-8EC5-CAB0925C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0535-F83D-42EE-8016-54C6A471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D52A2C-AA55-40F3-8316-97BF6386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66B08F-CB81-4C0E-AF25-962F9DB8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8A5631-E7C3-455D-8C59-60C46A7B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0D2E10-2A46-4DA3-AF41-0C18FCBA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9750EA-8EA5-49F1-8DAA-E0F65473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EEA-D3DE-4722-8F51-4ABA434A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1FADE2-D704-4128-841B-6EC910D6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7A8DD5-B810-4A55-8772-9BB12F0B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1D3D0-770E-4992-B661-E3661AC0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8CB4D8-C7A9-44D4-B975-D1EBC64C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7C4F14-E8CE-455B-ADFD-A7F1309A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C589A7-6094-4F94-B19E-C69C7308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ACA3D7-2A8D-4D44-91AA-6B69E8DA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36FABE-A88C-4774-98FA-F484F8FD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2E0A31-2F04-4F4D-997A-6EFDFF75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70F374-3F7C-4603-B09E-8C770BA2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5664-B590-4D15-A68E-7274F589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59A1AA-678F-4334-8F1A-E47A3440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25ABEF-FE65-403B-9415-E7E0DC22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6BEDE5-5B3F-48AA-9842-8C659109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AE8AA9-554B-4E34-A2D6-E1C625A3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0F16DE-96CB-4DAF-91D8-4B6EC34F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29A185-BC8F-42AE-82C9-78C3A744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3EA0CD-27DE-4E66-91B9-51DC9415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F25C7E-DCB1-4F3B-A7DF-A75F5E4E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9D4EAB-3AD6-43B1-9D9D-78D2CFA1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11ECFC-89E8-4093-8BFD-B098D916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F817-9B96-45AF-99C4-B89CB7D1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F31754-5A50-4AF6-A096-9EBE503F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8A2ADD-F5B8-4DE5-AC4A-B874F33A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A7F3DD-591B-4DB9-9B38-AFC076B5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09D1D3-448F-4385-8A05-3786EC07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65EB7B-3148-4C9F-A3A1-DC0D84AF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A6CF34-4779-423E-9B4F-94188C06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BAE280-1851-4BE7-B501-DDB0B98D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F53CFF-CD64-4966-95FE-0928F2EC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90C6FC-44E2-44AC-BD70-29F639C6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E5C174-EBA0-42E0-B21E-CAD4098B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EC55-55EA-4716-B787-0FCEE302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A39EF2-563E-44CA-8F30-7DCD3740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D6FEC-D184-400B-B021-BD812E1F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6229E-D870-4019-B407-4CB61FAF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69602-FB75-4860-A3C5-4F6DA828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72AB2-B608-4C50-BD0A-670949B9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3D0FD-2200-478B-BC26-BFD23DA0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45C30-E173-40EC-9763-2EAE03D2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E7035-E7BE-4FC0-A2C3-CB8EA8D8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4C31D-EA3B-4093-A175-FC8B06F2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01D4F-9507-4912-B480-520330D7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E888-5609-41DA-B07D-096B6D8C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EB90E-373C-4AA0-9647-FA39CDEF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B0CC7-D2E8-45A0-8800-844DE0E2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A4778-5CC8-4E1F-9186-C5AC0CA8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E25BCA-6EB5-47BE-8F96-D650138E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B0D998-27CF-4DD4-B088-5E817FBF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6B4040-A582-4F3D-89C8-D0A86640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B00D30-E60B-4046-AA82-55DACF4D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20C0CA-E3F9-43E8-8C3B-F0DFAA2B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CAC8CC-C591-4AE6-B79A-F3474D56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4FC491-BD6D-40CD-888D-82173B23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1657-ED0A-4B6A-AE7A-F9DEDB70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10C08C-0760-466B-ADD7-ECDE6021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DB47A3-59C2-459F-9CF6-BD180088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8BBE80-FBEE-4EAB-9ECF-59892473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628B0F-A71D-4E2B-98A6-C4EF0D9A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6A26EE-4E87-4B0F-9BFE-A1E91B06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EF66F-2F76-4D64-B9DD-99AB855B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2BD8A-CDB9-4984-B61A-CB1063E3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5CFBB-12F2-4F7C-A15A-D3A2AF84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0D571-71F1-41B9-A8B3-1651C667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A4C1B-79AF-4227-9EF7-BDFCFC43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3E22-D6FF-4DFC-B317-EF3D593C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79702-6051-4C98-99EC-21368B80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3A638-7C6C-47E0-8EBE-140EE385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FF94E-83C8-482B-B28D-94A2BF61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F36C5-F490-4034-8781-68FF9DE8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834B9-88EE-423B-9817-FD0BFA88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8AC5C-EE84-4EBC-8A49-5D73C37F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2588D-B644-40C2-A462-FEF95CFB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C621-1605-435A-962F-BDE25AE8A613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F445-D6D8-4E8B-872C-5829D5C14C1A}" type="slidenum">
              <a:rPr b="1" lang="en-GB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3B58-8037-4A07-A4E4-5FA8CEC1714B}" type="slidenum">
              <a:rPr b="1" lang="en-GB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9399-6935-47F1-BC59-C8526977D2BD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60EE-F3BA-4C30-9FFB-AA17D3D539F1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D7A2-97D4-41B8-B241-7EDAAC409BEF}" type="slidenum">
              <a:rPr b="1" lang="en-GB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31BE-D2DF-4FD9-BC19-503D95EEE6DF}" type="slidenum">
              <a:rPr b="1" lang="en-GB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1789-80B9-41C2-B509-994F6142D02E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uropa.eu.int/mariecurie-actions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dicine.tcd.ie/pharmacology_therapeutics/marie_curie_training_programme/index.php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85520" y="164304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dc3"/>
                </a:solidFill>
                <a:latin typeface="Tw Cen MT"/>
              </a:rPr>
              <a:t>DATA NEEDS FOR A MODEL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3149640" y="216000"/>
            <a:ext cx="5599080" cy="866520"/>
            <a:chOff x="3149640" y="216000"/>
            <a:chExt cx="5599080" cy="866520"/>
          </a:xfrm>
        </p:grpSpPr>
        <p:pic>
          <p:nvPicPr>
            <p:cNvPr id="360" name="Picture 7" descr="Marie Curies Actions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396200" y="216000"/>
              <a:ext cx="13525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8" descr="Logo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635280" y="274680"/>
              <a:ext cx="36482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9"/>
            <p:cNvSpPr/>
            <p:nvPr/>
          </p:nvSpPr>
          <p:spPr>
            <a:xfrm>
              <a:off x="3149640" y="647640"/>
              <a:ext cx="39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e9d333"/>
                  </a:solidFill>
                  <a:latin typeface="Calibri"/>
                </a:rPr>
                <a:t>Cardiovascular Epidemiology and Epidemiological Model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ectangle 5"/>
          <p:cNvSpPr/>
          <p:nvPr/>
        </p:nvSpPr>
        <p:spPr>
          <a:xfrm>
            <a:off x="183528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tin O’Flah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on Cape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sion of Public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Model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71680" y="15717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Depend 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Questions to be address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Choice of model logic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sired outpu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Populate the mo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Validate the mo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Key issu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Availabi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1714680" y="5929200"/>
            <a:ext cx="6215040" cy="7858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A modeller’s dilemma: Built your model around your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Build a model and then gather the da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of a chronic disea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2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3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Oval 14"/>
          <p:cNvSpPr/>
          <p:nvPr/>
        </p:nvSpPr>
        <p:spPr>
          <a:xfrm rot="2412600">
            <a:off x="1318680" y="1006560"/>
            <a:ext cx="2819520" cy="4862520"/>
          </a:xfrm>
          <a:prstGeom prst="ellipse">
            <a:avLst/>
          </a:prstGeom>
          <a:solidFill>
            <a:srgbClr val="94b6d2">
              <a:alpha val="25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addressing a generic public health ques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0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1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2" name="Oval 15"/>
          <p:cNvSpPr/>
          <p:nvPr/>
        </p:nvSpPr>
        <p:spPr>
          <a:xfrm rot="1558200">
            <a:off x="3634920" y="1670040"/>
            <a:ext cx="2605320" cy="5135400"/>
          </a:xfrm>
          <a:prstGeom prst="ellipse">
            <a:avLst/>
          </a:prstGeom>
          <a:solidFill>
            <a:srgbClr val="ba8f2d">
              <a:alpha val="25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6"/>
          <p:cNvSpPr/>
          <p:nvPr/>
        </p:nvSpPr>
        <p:spPr>
          <a:xfrm>
            <a:off x="785880" y="4857840"/>
            <a:ext cx="2000160" cy="357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Primary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2786040" y="6286680"/>
            <a:ext cx="2500200" cy="357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Secondary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of a chronic disea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0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1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92" name="Down Arrow Callout 8"/>
          <p:cNvSpPr/>
          <p:nvPr/>
        </p:nvSpPr>
        <p:spPr>
          <a:xfrm>
            <a:off x="3500280" y="1643040"/>
            <a:ext cx="857520" cy="1071720"/>
          </a:xfrm>
          <a:prstGeom prst="downArrowCallout">
            <a:avLst>
              <a:gd name="adj1" fmla="val 25002"/>
              <a:gd name="adj2" fmla="val 25000"/>
              <a:gd name="adj3" fmla="val 24996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w Cen MT"/>
              </a:rPr>
              <a:t>What determi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w Cen MT"/>
              </a:rPr>
              <a:t>INCID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eft Arrow Callout 11"/>
          <p:cNvSpPr/>
          <p:nvPr/>
        </p:nvSpPr>
        <p:spPr>
          <a:xfrm>
            <a:off x="6000840" y="4214880"/>
            <a:ext cx="1714320" cy="857160"/>
          </a:xfrm>
          <a:prstGeom prst="leftArrowCallout">
            <a:avLst>
              <a:gd name="adj1" fmla="val 25002"/>
              <a:gd name="adj2" fmla="val 25000"/>
              <a:gd name="adj3" fmla="val 25000"/>
              <a:gd name="adj4" fmla="val 6498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What Determines pro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eft Arrow Callout 13"/>
          <p:cNvSpPr/>
          <p:nvPr/>
        </p:nvSpPr>
        <p:spPr>
          <a:xfrm>
            <a:off x="6429240" y="2214720"/>
            <a:ext cx="1214640" cy="785520"/>
          </a:xfrm>
          <a:prstGeom prst="leftArrowCallout">
            <a:avLst>
              <a:gd name="adj1" fmla="val 25002"/>
              <a:gd name="adj2" fmla="val 25000"/>
              <a:gd name="adj3" fmla="val 25013"/>
              <a:gd name="adj4" fmla="val 6498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How large  are th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Straight Arrow Connector 15"/>
          <p:cNvCxnSpPr/>
          <p:nvPr/>
        </p:nvCxnSpPr>
        <p:spPr>
          <a:xfrm>
            <a:off x="1071360" y="4071600"/>
            <a:ext cx="1929240" cy="1857960"/>
          </a:xfrm>
          <a:prstGeom prst="straightConnector1">
            <a:avLst/>
          </a:prstGeom>
          <a:ln w="76320">
            <a:solidFill>
              <a:srgbClr val="94b6d2"/>
            </a:solidFill>
            <a:miter/>
            <a:tailEnd len="med" type="triangle" w="med"/>
          </a:ln>
        </p:spPr>
      </p:cxnSp>
      <p:sp>
        <p:nvSpPr>
          <p:cNvPr id="396" name="Right Arrow Callout 21"/>
          <p:cNvSpPr/>
          <p:nvPr/>
        </p:nvSpPr>
        <p:spPr>
          <a:xfrm>
            <a:off x="857160" y="4786200"/>
            <a:ext cx="1071720" cy="714600"/>
          </a:xfrm>
          <a:prstGeom prst="rightArrowCallout">
            <a:avLst>
              <a:gd name="adj1" fmla="val 25002"/>
              <a:gd name="adj2" fmla="val 25000"/>
              <a:gd name="adj3" fmla="val 24996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 summary of IMPACT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Number of people in each group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 each risk fact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 each disease subgroup (eg: AMI, UA, CA, HF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umber of death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What determines incidenc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isk factors effect measures (RR or b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What determines prognosi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ase fatality rates for each disease group (rate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terventions that reduce case fatality (RR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Uptake of those interventions (%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 summary of IMPACT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ake into account ti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Trends of: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Number of people in each group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Levels of risk factor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Levels of uptake of treatm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Data to validate the mo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Observed morta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ome last (but not least) data ne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Data to support assumption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eeded to fill gaps in knowled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hey are guesses, but the better the data supporting the guess the better the gues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n example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English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fatality rates: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Scottish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SLIDE  data adjusted using England/Scotland SMR 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(see http://www.heartstats.org/temp/Tabsp1.6spweb06spup.XLS)”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Data will need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ritical apprais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dap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ocumented (appendice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The data gathering tas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his phase of a modelling project is critical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es feasibi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es the quality of the final product (the principle of “garbage IN, garbage OUT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is time consuming: it will take a large amount of the available resource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ut as any activity in a modelling exercise, data gathering is an ITERA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We start simple, and we add layers of greater complexity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1:13:36Z</dcterms:created>
  <dc:creator>O'Flaherty</dc:creator>
  <dc:description/>
  <dc:language>en-US</dc:language>
  <cp:lastModifiedBy>Computing Services</cp:lastModifiedBy>
  <dcterms:modified xsi:type="dcterms:W3CDTF">2008-04-14T10:12:33Z</dcterms:modified>
  <cp:revision>8</cp:revision>
  <dc:subject/>
  <dc:title>Data Needs for a Model</dc:title>
</cp:coreProperties>
</file>